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B27-8840-46A4-8003-27AAB8FD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8CD-8E53-4518-8587-B47EC97B7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64A-15CF-4DF3-A7A7-8B27EE2F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01C-9551-4696-B15B-5DF9F0EE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10D-A14D-4570-A6C4-949D6FD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288-A361-430E-8AD9-06B6090B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E08-864F-4119-B68D-F26D42E2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8C9-8B6F-4CEF-AEA6-AE72DD5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DF8B-FFA8-4631-8258-468CDA3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0C6-5F36-42A4-959C-270CDCEF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6ED7-E103-447E-A354-9C77FF2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C785-B0FD-41B2-9031-C39D5DEB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190-85B2-47E1-AA51-17A9095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C7A-D70B-46EE-AC89-DE17BAE2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DC0-F394-47F0-BEB8-3735F3B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7E0-98A9-4FAE-A433-2D0110A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6A86-5FD9-4E7A-8BD4-C178123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1ED7-0111-43F9-812C-10C10D1E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8045-2E5E-421E-9DD6-17809823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193-653A-4993-A722-A05F5964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F5A-4DBD-48E4-9FE3-E145B082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3E5-E246-419D-BC5B-77134BBD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C39-3CE2-4DC3-A787-56B4A9D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854-6E5B-469E-9824-98E0833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23A-B2EA-4321-A8DC-A5B53C8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891-5A2F-4517-9FCE-74BB3A5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9E0-0AB8-4B9E-A173-5911609DEC2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897-FFE1-4510-8EDB-2315FBD2D68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LeBron James Miami Florida Mansion"/>
          <p:cNvPicPr/>
          <p:nvPr/>
        </p:nvPicPr>
        <p:blipFill>
          <a:blip r:embed="rId2"/>
          <a:stretch/>
        </p:blipFill>
        <p:spPr>
          <a:xfrm>
            <a:off x="152280" y="2819520"/>
            <a:ext cx="4876920" cy="3438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181480" y="3276720"/>
            <a:ext cx="3505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Bron James maison est belle et bla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410080" y="1599840"/>
            <a:ext cx="3657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jardin a une terrasse et une piscine avec bleu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umièr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92160" y="1733400"/>
            <a:ext cx="54036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410080" y="297180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chambre est brunes et conforta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4086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425760" y="1060560"/>
            <a:ext cx="42004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324480" y="33526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salon est grise avec un grand f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nêt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Josh Altman sexiest bachelor pad los angeles"/>
          <p:cNvPicPr/>
          <p:nvPr/>
        </p:nvPicPr>
        <p:blipFill>
          <a:blip r:embed="rId2"/>
          <a:stretch/>
        </p:blipFill>
        <p:spPr>
          <a:xfrm>
            <a:off x="152280" y="2362320"/>
            <a:ext cx="5619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486040" y="3657600"/>
            <a:ext cx="2895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a cuisine est très grande et noir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76320" y="175248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257800" y="3352320"/>
            <a:ext cx="3581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salle de bains est blanc et bel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685800" y="2057400"/>
            <a:ext cx="422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723920" y="3200400"/>
            <a:ext cx="39625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e théâtre est super. Il est blanc et brunes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0" y="1447920"/>
            <a:ext cx="48387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'aime les lumières bleues dans la pisc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n`aime pas la couleur noire dans la cuis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pense que LeBron James maison est bell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5" descr="Click to show &quot;LeBron James&quot; result 1"/>
          <p:cNvPicPr/>
          <p:nvPr/>
        </p:nvPicPr>
        <p:blipFill>
          <a:blip r:embed="rId2"/>
          <a:stretch/>
        </p:blipFill>
        <p:spPr>
          <a:xfrm>
            <a:off x="3352680" y="3962520"/>
            <a:ext cx="237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1:20Z</dcterms:created>
  <dc:creator>edill</dc:creator>
  <dc:description/>
  <dc:language>en-US</dc:language>
  <cp:lastModifiedBy>Papi</cp:lastModifiedBy>
  <dcterms:modified xsi:type="dcterms:W3CDTF">2011-11-16T21:26:59Z</dcterms:modified>
  <cp:revision>41</cp:revision>
  <dc:subject/>
  <dc:title>Le salon</dc:title>
</cp:coreProperties>
</file>